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wmf" ContentType="image/x-wmf"/>
  <Override PartName="/ppt/media/image16.png" ContentType="image/png"/>
  <Override PartName="/ppt/media/image21.jpeg" ContentType="image/jpeg"/>
  <Override PartName="/ppt/media/image22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26.wmf" ContentType="image/x-wmf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94D-A19E-4A86-BAF6-2BB95DA2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07E-5C41-4FB9-B327-98DB39F6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2DDFA-9187-449C-A375-9F9AC91F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433E1-86C8-43E9-9584-4439266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13848-84C0-493C-BA9E-DA77D288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CF184-76F4-4F46-953E-159397D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3C484-31F6-4568-8D18-6773D45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F04D3-BBB0-4B42-B51A-47F36C2A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2D166-1333-44A0-994F-7FE11BB0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4AAEE-894F-49BC-9C56-BB03A29E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CE1FD-DE21-4E72-9CA9-99373D26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73BA9-9F76-46D4-8B49-527DF86B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EE8-1A4B-4462-8831-EAAB4CDA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5C7E7-AAC0-47F7-A131-E05BDAAF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6BDCD-832D-47F1-BDE7-9D2784DC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2D892-F308-4BF9-A5D0-4E21067F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AE6E3-2CBD-4CE7-995B-2B569A78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8F89E-50AB-4C2D-A381-051C967B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81028-AE99-4C2F-8D5D-EC81427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FB6DE-3B69-4DCC-8450-2A9E0B9A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F377F-E9CE-4376-9003-B149CA0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F5E6D-39BF-4D31-A3C8-171062C6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32330-4FD0-476F-AF4B-D503560C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216-D455-4B2B-B9D1-3D844454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6293B-5BFA-408B-B774-294044FD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88E36-7952-45AA-8DF3-E643E9D3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C346-F289-4843-A268-CF5CB38A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24939-CDFC-4276-80D8-22D3C7F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79CAF-8F01-4D2E-B42B-E5EAD1EB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DBCE2-6407-4BEE-8750-5B357481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49D7B-B9A7-4935-850B-7C14B13E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E7B80-8437-4D30-A8C5-07EF6DE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6C276-B9A4-4816-B5A5-398985D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A6623-06A9-41C4-BC9D-30FF44AF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5F6A-00D9-4F46-B6A1-9C8A6B39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7B337-8DE9-4526-8B4B-54C32FDA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21CDC-5F75-4EBE-A4ED-01ABF02F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CD025-71F2-4804-B4B1-BD4CCC95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DAEA3-F9DC-45D0-8935-AFAD54DD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335F7-56B1-4BDD-93CD-8E20D1BF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98323-9FF8-48E6-A57D-8C2D13DA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0D7CE-EB76-469E-8082-508E247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2E42B-35BF-444F-B02E-244174E9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09432-2B21-4541-BCCD-69678909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4A644-ED9D-48D0-AC2C-69F5B063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BE68-33CE-42CB-8DC5-AEC346C8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F9070-7214-4A7A-8691-A75CC909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8961F-46B9-431A-B702-3C4EB10A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AD8ED-BC0A-40B9-9B88-B3CEB76C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BE116-3F10-436E-9562-46C67713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C7711-5D17-4098-92D8-A872A05A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3340B-1AD2-4EC0-AB4D-A9FEFADC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9BFCF-7616-4B40-A762-7DB6EA62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872A4-9E2A-4AA5-B3A9-ED73A80B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C7F46-41D6-4015-8FCE-1B8C69A7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5C16D-FDAE-4C91-9828-408EDD8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1545-4650-4DA0-84C9-7C0CBD1D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71154-2148-45A7-A124-28C3E91F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32362-7165-4649-9271-F8412110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5C408-E788-41C1-A76B-E6F33A9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242C7-5BF2-47CD-A1D6-78A60C9E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B7179-2FC8-4BC9-A4D6-4AD2247D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516D4-9BF5-4AFD-95FB-838797DC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BF395-55A5-4543-918E-9E0B7FA1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33C8B-BF95-4A04-B5E1-C8BE21ED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F4033-1C15-4DC0-9B8B-E3EFA679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7DBF3-C81B-482F-AE93-7B8B4C40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66F7-089B-4AE1-AB63-3E46650B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323D3-40D1-4F1B-AEBD-C6176581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B1EF8-AA77-469C-B78D-BD3CA844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A4F5F-13A7-44B1-8A5F-5AB6D5F2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BAF8A-B9E6-43CC-BD83-F5FB0A6A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0A12F-3106-4191-812C-610E92C6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FBB72-7096-41B1-BFC4-4627BA5C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C1D6B-5661-4B79-B6E6-57D13F8F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5B72B-0E15-46E0-B2A9-F5427779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08F0F-C1D1-431A-86C3-3319892F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E65A1-080A-436D-8F1B-7AAF1E0C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9268-1A96-43B3-9510-CAA7621A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CAF3B-7EB8-4BB7-84AA-8B7BF0D3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E8C47-DCC3-4A5D-A96D-8C0AFB2F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01F5D-C932-4AB2-85BB-4D6811B2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9FB17-B9A3-4526-B78B-EDA53518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16829-849A-4E3C-976A-448F6D7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71316-3B92-4B19-9C71-63F72BAE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140F2-A5DA-4C90-BCB9-E7AB0324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69431-F154-49E1-92F7-820B407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BB537-3D89-40A4-8502-41142071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8CEEF-769C-4812-A86F-09142BD0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A4AE-29DE-4FBE-A1A2-B3906F7F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DDB1E-B537-46E1-92BD-A39A5024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0288CE-065A-46CC-A86B-F4A31B5A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09CB1F-0EBB-4D81-BE41-D651C09E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7D5EC8-EC8F-46A6-A5BC-834CCFF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936791-6738-4F21-8581-170804BF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D870B2-0D8F-44BD-8E1F-E4662F5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6A6795-5A2F-4348-8EDC-9798833A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609ACE-21EF-461C-97C7-0ECD283A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7744B4-CEDF-4C8C-9FF1-8D9092BB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087FFB-FB56-4CB9-992B-A88BF7C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80FF-13C2-4FD0-A8DE-B01BF8EA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840C96-F67A-4DFA-A4D1-45BAE4D4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DC33AA-CA66-4E6A-9FE6-6564AC55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72A4DC-7645-42AD-A38D-0D0AE832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AA0CDE-516C-4F4F-A8FD-E8E6511C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ADC453-30E7-4F28-BBA4-85081E72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EC5092-C4D7-4629-9F83-5D3E5B06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309806-F50A-4166-9751-D97048A4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74D654-956A-4A15-AC73-F4C583C0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B42506-3A5C-4944-B867-AA339B0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69A5C7-3203-4D5C-B4A8-30F37F2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A15-4B8D-42D3-B032-DBEBB215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B462-18E8-4473-B774-AD0DF6B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45F04C-5938-4A3A-B8DB-B0E280EF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F45AD8-E054-4655-A773-8C114C37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BA9685-9BD9-441D-858E-148E4937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74F7FC-C633-401D-BCB5-07FF3DCE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4A4CE4-BF57-43DC-A8B7-383DC5B8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CAC452-028A-48F2-9129-7BF3756A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8A5F1E-9802-49B2-A22F-8FEF9A19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8F6651-1294-46E3-AE0C-55572011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175D56C-C9AA-4343-8083-703DFB5A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4488F2-1AC5-4E15-8A87-07F79282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18B9-B7C8-4EE9-888E-BB51BFCE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C18FB4-C69D-4C30-A861-3E9630B1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F742FB-5BDA-4D38-907C-FD2871A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660FE8-246A-49E9-9C9D-4307DC6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F6FFE6-97F5-4147-BC30-04E037E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CF6D16-79E5-4AD3-B436-E8B4CE7B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360A0B6-0D57-4628-A76C-2C261253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F9C5EE-183F-476A-B59D-F14244B5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DA99C9-3CB5-461B-B6A5-416E1003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2B22B-8EDC-40E9-892F-F0D3984A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B74D5-D670-484A-8617-04D597C5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7586-6BF6-4471-B859-92E1353F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D31E7-8D6A-4EA6-81EE-B683B4F5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B0AA0-D2B7-46C9-B1E0-3DD8F47B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6894C-0402-4DB8-BBFF-BCB2EA49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841A2-8585-4C5F-B386-30F4232B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37157-3582-40CA-83D0-9848B6A8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0EE1A-2E94-41E8-9FEA-A5A3B87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9F999-1857-49ED-8CBE-C020D907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F5827-F8E4-4799-AB67-B1D7F34D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40ADA-F105-42DA-A20F-DB25265E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B2FEB6-1B99-4F88-9A99-16EFC333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0605-A583-42A5-B734-728F68EB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D823DB-1AD1-4925-AB75-2BDF3058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FDA3F5-09A0-4048-928E-173EF734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B22224-861D-42AE-B73C-9E5C5FB1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18DFB10-6631-44C8-B6AB-EC5C4AA9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3E83B9-9D08-4958-AB2B-C87B2D3B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858B02-BFC8-41CA-86F8-EEE9E3F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F4A4E83-00BB-460C-A955-1C72AFA2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EDD877-DD23-4DC6-B3E4-0E5E9AE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24CCC28-CF89-4313-A35F-B095A6AD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9FE8446-C6EE-425B-9390-F85C3DCE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6F16-02F1-4424-95EB-915D7738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26800E-9B18-4AC8-8245-721E1B05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BDC151-2132-4811-9C45-3F21F556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EC0CA3-F89D-42E0-A4E9-57BA53AF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A3178-0917-4D45-891D-72456712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8846A-0E52-45EA-9E31-F8600523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3E0437-9E6B-403C-A77B-E6261625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1A6158-7A69-4F1E-B788-72AD504E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0D570-BFDD-44E7-8D1D-833628E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96AE4-B23B-4F5A-8605-7A7BAAEE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D4E371-ED7B-4ABA-83CE-1B9D3180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D400-CA6E-4A3F-A614-677B62A7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278EC0-1752-4E43-BF85-39D68CD7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67AD08-B8A1-4845-ADFF-335F0EF4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0FCF02-5219-46C3-88D2-4B574A1B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C9E8AF-5D6C-44C1-960F-6D701866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B41DDD-44A6-4F27-B81E-C4C8700B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0106D0-E0FB-4A5E-A304-095EE40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6FA4A-DAC0-44F7-87D1-CC7EF754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A7F30B-DBD6-4FC9-BC21-A9B46018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FEB086-0B30-4974-A7DD-FE3E518C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6C6755-AF9F-480E-BA4B-CA8DAEA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0E61-4B7A-4485-A6D5-B4FB82BE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C169BA-6EAC-4D25-A741-875CB9C3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099A0E-FBBC-44E4-8259-5C11470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A04826-03E0-477A-8323-1459FA3A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D222FA-A4A4-42E4-9E60-5AF8B2A3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3C07A0-961F-4CAF-8907-9E55564B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23D999-AD84-46B7-A561-B86D3137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87A429-0C1B-45C7-930B-4EA8B60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9AF217-C052-46A3-92AB-26C03700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9A856A-D39A-412F-8FF7-546F6F44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FEDDA2-286C-4502-AE7B-8859EFAA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B4CE-9FB6-4384-B30A-4AE6E16D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FBB188-CC71-405E-B0A5-27753CA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00048D-9C7F-48D5-AEC5-66CEE2C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2E0F50-A379-4D7B-ACC9-438AEC4A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6F4B79-452F-4066-A26C-D9A5317E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16E0CD-E123-430F-9DD1-B4FEE229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2A4F6D-0E49-4B51-A777-066F3A1E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CA6002-35A7-4FF9-87F3-766823AD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2F7E7C-9ABC-4CA0-9B98-BAAE9306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65FECB-C115-434E-ABA6-FE58F52F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FB5BF-A8BA-4FB6-8107-9CC883F1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03E6-3381-4DDB-B34E-0A6410A7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8D8020-AE52-4042-93FE-D1C907C6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802FCA-AD5B-400E-B772-AA76983A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434797-3EFE-46F1-B38D-4355217E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C4501-4569-42EA-9F4D-E3024B72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CDED9C-49F8-48EA-AC1C-2F37CF24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20E956-DC9D-4256-87B8-D2516182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608712-AE1E-4F88-AC19-7D0B3645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8A9AA6-A118-4E5F-BE4E-D5A55909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5850B3-042B-4F8F-BBB6-D9D25E83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2265AD-760E-4503-ADD5-61D52D62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8C44-5E76-48E8-931F-6C2CA1F6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B59BD9-3250-480D-8005-745349F8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CABA7E-B2DF-4E66-BD1F-7109883A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08696B-4DE7-4533-8A18-863624C6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C01137-323E-4E43-B831-E1AC6C1F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AA59D5-0568-4578-9F34-EA535DDE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7C6183-8C8F-427B-80C0-BBAE731B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BFC92D-D949-4FE0-B875-2B8B6A6E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660AFE-2605-4BDD-B718-F62CF47C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BE61D0-B3DB-4EB0-8CB3-681573D5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464996-3F21-44EE-BD3F-4B40B151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AE6-7875-4164-81A8-658619B3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C0E3-98CA-4982-A702-6FC87A95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9CF7F5-28B3-4FF3-A374-7F3A177E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1FE7FD-96AC-4840-A912-29705290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5E5CF6-3B70-47BD-8EF1-87B10E10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A21450-D9B9-487B-9F1B-0EF2102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FC8343-18A5-40B6-9DA3-15F98F1E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B3EF2B-58CD-4953-94D7-9387A49F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1366BA-98D3-40D3-9B02-D8EE775B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CD9D11-F201-4631-A905-AA6CE3F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43092B-E295-4B59-84DD-A462A7D9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22FD4C-76E6-48E9-9413-4A742ED9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0997-1A9F-4EF3-9F05-D9143409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F0D1DC-A022-4931-A045-DF7FC3B7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42CFA5-31CA-49CC-98E5-B9145CE6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E5D4D6-CCC8-4993-AE88-F6CCD16A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1873A9-8C77-46E1-916F-1D3B0DE1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F11867-CC41-4D75-8816-61738779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9558A3-A745-42BC-8A6D-2CAC7CC2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FA7017-1A82-4E89-9B60-87433A7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70B3CB-33CF-4632-B15F-A63FF010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FDA0BA-C02C-476A-ACB8-07A0C511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B5AEFD-D54F-437E-8CDA-B528B1C1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71FF-4634-499A-8277-F24D8CB2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2CB998-5404-433D-BCA8-07B55D1A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99CC0A-89B6-4793-A606-41AD0681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7281B5-1585-4F1E-B9A9-1E909F72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D727F5-FA14-4E60-8363-95ECB629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D100A2-9A30-4BD0-9C79-527BADC9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50EDA6-074D-4D68-9608-84434AB9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F195E5-7BF9-40DB-ABE5-31638B3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2A2295-B2A4-42BB-AA52-67EA6422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32A36F-51B3-4B85-AF8A-64E2C37F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B897F5-CD4D-4C67-859F-5B2B53CC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0DBA-AB29-4FF3-8B53-5B3F7E8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34B587-7F06-4CF7-AA82-3BDDF122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D9D344-BDD6-4E3C-9CD6-2B16D789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ADDE91-41BC-482E-8C6F-416C6FE1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939ACA-35E6-4BBC-AE0E-31CD3D54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D381A2-5B72-4D1E-A266-996243D3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3FB3FB-0FE6-43ED-9E63-F61CDFC3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777164-7247-4CE1-A119-5459199B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1F26D4-7667-45CF-8630-CF278149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949E23-94C3-4CD0-898D-A6868EB1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28B9AB-7465-4245-9F28-F08E03B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4800-F0FF-4733-8BF2-5ACDF076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F68E08-0C8C-4DF9-B0A9-2C5C493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2BA53F-DF30-47CC-AECA-62FD3E5C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461C06-D20A-4CC5-8E40-955D3E6A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E0727D-B535-40BC-B6E0-7FAECCAE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0FCD7F-ACE4-4692-917E-0AF2DD1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B16DDB-8339-4A43-9FFF-8260ADA7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6161D2-8E0D-4698-8364-94FBB544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02D14C-37B1-4300-B33C-354A73B0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19A8DE-8D16-4ECD-A548-93FE6AB3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3B084E-2889-401F-8D2E-0812BCD2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31963-D56D-4A74-97F5-DB6D406B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7E5501-76A6-44EA-B3FE-D08A502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03AEF9-2FE5-4FB8-B3BB-D448646A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4EB840-52B2-49D6-8FB5-0E7FBFE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4F73FD-F4CA-42C2-BCD1-9ADDD6E2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EBE339-7FF0-4533-A489-48951CA3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D12FC0-364D-4B55-8E26-1796032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EF4B73-1548-45FD-AE2C-BC8E13B6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06F7DF-A3F2-43AE-991D-4B55D40A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4D2987-1E1B-4C44-BC38-EC1E66EE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539250-61F6-4E87-81CC-3B1CA2E4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D6EF-EA74-4DC5-BB25-1A06C5A7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43128B-635F-4DE0-A9A6-16F69FFB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ACCAA5-4C9B-4A21-8274-245E50BE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14CFA7-AF7F-4F1F-9060-CB933DFC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ECAD62-3B7D-48EE-97FE-FB7E74D7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F85149-3299-41C6-A72D-4E7FC0B2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B63660-BCE4-4885-A6F3-D68F99B2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82D1DD-A522-434E-B48A-82695224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36B917-4C5E-496B-AF46-962E284E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7ACF6F-A2C9-4054-A1A1-FB3939E3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F839E1-B66A-40B3-B49B-76C56686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8F67-3CCA-4B59-97D6-19E4729B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615B7C-01A1-4B65-B034-375CF13A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B100A9-B977-4A97-9EAC-4F7086B5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BE427F-523C-4D16-8EA3-B12E61DE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25EE81-AB19-4E54-A75B-7D5F789F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D81AD6-7747-4E8D-804C-CA9B693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E18F0A-E9B6-4BA3-94EF-222726BD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D4CF49-70EB-40A8-97F0-DC198AC2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FC2BD7-9D91-4492-AECB-857E523F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82745C-CB0F-473D-BAF8-07839540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1B58C3-6588-4C39-96E5-BC5D4EE6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0CA36-B363-47E4-8170-2B008282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353037-A35B-42D7-A616-55E00A4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B26771-30A2-4C3F-A146-A712A062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59B211-B296-4873-869D-4EC84CBB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58054F-15CB-497E-BBE7-FFC7C6CB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B3350C-8C76-4C50-992E-224FBB57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453C35-218D-4D3C-85EE-F84B9F34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BCEF79-6761-4916-BBCD-B0D94C74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845172-5427-463D-A34E-83A81AC0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605DC0-7DC0-4AB5-AB65-4F4C565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AAAB19-0550-4CE2-8658-6535F49F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BC95-4CAF-4F65-A271-39F6B82D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935EBD-A1B1-4F31-B2DC-7349F91A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1A7F10-8530-46C6-B79D-ABB629B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9681B6-3CCA-40EB-9276-3C74CE74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84C228-9BC1-4DF8-AAAF-9B43CF3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724213-DB40-4931-BED8-21F081C1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D08512-2C8B-4867-9020-EEF02E5A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EFFA1A-16D9-494E-9328-67F18B8D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824091-372F-4C67-98BC-361340AA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D3A694-667B-4074-A60D-7954C477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E01E9F-F170-4E34-8DC8-48DDB553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40F-8D44-4EB4-A429-40E84456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C9950-A4DB-4B1E-B6B1-76F540C3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C283AD-CF61-47AD-A4EB-4EE7F5EE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50FFF5-DC37-478C-B46A-4586BE36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963D2C-B90C-4D61-9CCF-3F090004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DA5DF4-36ED-4FF6-A76F-13DD2CA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097148-9FFD-4531-9B3B-74CCF1BD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3776B8-6AFF-4159-97AC-AF3C6767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1F6111-4D63-43F1-A24E-4DA23FF0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D3910B-5132-4EA4-BC8F-83F03BD4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AAC8F7-DD58-4E5A-B2D0-48EC472E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5AB2ED-F1BC-4454-920C-89EB79A1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0519-F486-46DF-9737-FB903058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CE532E-E816-4F39-8EA9-10245352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672E9E-78D1-4EC9-BAF2-09FCD3FC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A587AD-882C-4A12-913A-86241E54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F0CFBC-2CB1-4AED-8055-243CBF77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FB1B16-2A01-4189-8905-2DDE0E9C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F7E664-FEB1-4294-BB97-28973952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90E4BA-27CC-4BEB-BEF1-ABE7C171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31A4DB-91DF-4525-90A2-ED776D73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30AFF3-FBF7-43C8-A166-6920804C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76F7D2-FD62-4695-B045-FF5FCAF0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2F31-1F85-4CE2-AB38-35357A7D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4EBF6B-9346-4B76-81F4-140E4574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BC96EA-F88C-4284-AF39-CA5AE121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2DF0DA-B807-48DC-82ED-25AF73E6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BFFFB5-558A-40D7-85E1-99B523D3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2FC7CE-F6E9-4126-9963-9E603FFC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7D3D45-C8B9-4120-95A0-C8AA1406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39BD1F-A33A-4123-A641-F03F8C0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3C657E-E496-45F1-9DC1-90FDBCF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7FE0B5-6E13-4223-A179-B637DF47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66E103-D664-4C42-93D8-CDC911A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8A649-A036-467D-B0E0-D9095F2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C3CC2C-CCCF-4973-8A06-5E982532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3FE97B-1B94-4442-B05F-6CA411F3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D8FBBD-6DB1-494D-A9FC-EB0E3162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E4C819-C6E4-4515-902D-6F1BDABD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1AFED1-3EF3-463C-9B70-18604B59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E1187D-B7FD-45AE-BDAD-9E4992AD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396CFF-6D77-4331-B905-B70669F3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54AC86-3CB3-4F74-AA5B-841A9FB2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C376F2-E8B6-4925-B250-1C4F2DD4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A521A0-55DF-498E-BC8F-0283A8B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C64A-F427-4C8C-A64D-2160636D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01F949-8FFF-44F0-BFA8-82762B23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BA7983-B67D-40F0-8D4C-06801CE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A052F9-4797-41B3-A514-E5CFF420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621292-A296-444E-89C2-8D36F9BE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796E30-D4B5-43EA-AB4E-5C10653E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43CE-FD09-4F43-A03D-B2406229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5F17-F519-491B-9A31-9868C45E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F360-7749-4D31-9C8A-075A5174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DDD7-BF58-4A7D-8446-5E4F4276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42A86-0D82-4F78-BE4C-E64A5F57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634-A6B1-4ECD-98C7-995D411C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8ABE7-211E-4356-8D86-CC27A1E2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40CF8-76A4-4B47-A926-07332DA8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D24C0-BA21-4720-86EA-913A9B00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520D5-631E-4363-AD11-B156B93E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8D0C-1362-4EC7-A94A-B8CE55FB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FEB9F-959E-41DF-B987-09D3F75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19270-FB7C-4233-8E8C-0913463D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80B0-36F3-4CD9-8458-11A94AA0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59DF4-7886-485F-85CC-B3C95745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C212-8F38-4ACF-9FCE-B9A28AED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4FE-807A-4474-9B9D-3AF91770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ADEE8-B40D-4EC7-9A13-3EED3C57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10582-5245-4EAD-A04F-A392E51C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8B12-A770-40EA-BBD1-ADA1CEF5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4ECF2-D740-40BD-B5EB-88C748FB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0BE2A-5601-436F-BF7C-1C143094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DB356-7B12-4BF3-9996-CC4ECDED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3F28C-D0C1-46AE-8F9D-65A3257E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A56C8-5336-4784-933D-EB5B71F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C69D-1B72-493C-AED9-C8487DC1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38A88-BAEB-43EA-A0CB-4415D51A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A60-12D5-429F-9057-AA3FBC9A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1285B-AC7A-4331-AE32-A8DD9BF5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07717-0788-41C4-8ED1-0FEAD6E6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D41D0-2957-4D02-9DFA-8EF504BD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3C712-51E2-41B2-AE2B-D6C0657D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40377-5217-486C-80CD-AFB9F3A1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0B44D-BDAD-4342-B3B7-3F32D77B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EBD37-C191-4261-A521-3139C489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6C40A-F44A-420F-8076-8FDBCFF0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C0E2E-8104-4950-A74A-4D0C9560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3E156-7968-45A9-AB65-E4F943F1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78D-C5D3-412A-89D9-BF404AB0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86E0-C1FA-4A5C-A638-4DD32E7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CE03-60F9-4500-9678-75B49C1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6E80-180B-427C-ADA9-4A6330B2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96F6D-9193-4C82-BCA8-492FA092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F67F3-ED72-4A07-B46B-3C94B328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E56BB-E20B-42B0-863D-371BD8AD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8736A-FB50-4280-BBC0-D246C1CC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16A17-1B51-44D2-901F-553D7535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EEB6F-BEAE-4A1B-AFBF-B749A1F2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1772-DF0B-456F-9B6D-6C3A5286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13D-75E5-42BD-9E52-0CBA5931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CA8DF-2AFD-45CE-B97E-36145007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9F47E-BF13-4EFD-8701-3D4F6C8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C03A6-4F20-40EA-AF7F-2398C58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65B71-F899-43B3-9AF8-FA7C4C9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FAF5D-1F82-4C63-8BD2-263EFD26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9A17C-8C3E-4EB3-8B25-874D741F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F7292-062C-4023-8035-3B8A6A6A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A679F-97D6-4683-B0A8-3ED9C190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925CE-057A-48D8-AF0F-9D7FE70C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D9D96-C90C-4B88-AF86-0BD6B80C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3A1E-E7C8-4045-9053-6EA2CDAF69A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06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8BCC-8532-42C7-9ACD-F7697271991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D61A-4056-47AD-970A-2D71B5D4A8E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95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96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A624-E599-465E-A5FF-F5715B435E9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810F-50B5-4D82-8AF4-527BA075BB0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137F-0036-4C0A-83C6-CB8D39B8D03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685-172F-439F-8475-482974470A46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sldNum" idx="47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3A19-709A-4F69-A043-29A19C9AEC1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5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C4EE-2F79-49BE-B60C-78CDD3E70C9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ftr" idx="5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sldNum" idx="5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B17D-AF6A-4417-812C-AD3D0DA45CD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ftr" idx="5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57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883-D184-4730-8BF7-5349E14CD31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A0A0-0AEE-438C-9B9B-493EC92E5BD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sldNum" idx="5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5907-DF38-4EBC-9888-387A6BA19E0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ftr" idx="6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58C1-D709-43F8-AF10-DABCCE65369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3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3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3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8B05-A52F-4323-A476-CDA1382F895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8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8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8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5DC7-1A2B-4501-BF36-FBE6C5CFBC5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8936-4D1A-4251-9232-896D791D14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7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077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07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8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pic>
          <p:nvPicPr>
            <p:cNvPr id="108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9364-939F-4496-9C61-F476797F661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2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12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12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3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2F4C-E0C3-46DC-9B04-E861925FF60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7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17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17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E7A5-E92D-4926-BBA4-7BCDD615DC3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387D-5CFC-49B5-BC2C-4FDE93090CB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6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26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26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190D-947F-4700-A1A3-E39BD91FA05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B989-01FA-4F9C-B5B3-1EAA522F634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FE1B-FCF1-4F31-BD50-C346DBD257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0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5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35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5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E30C-4562-48DA-A1A0-DC94A48FC73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9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9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9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DF11-76E6-4AD5-9C6B-B53DB54BA7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45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446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7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448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0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9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9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9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75FC-A2E6-47C0-B337-CCBBC8A9B7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5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dt" idx="10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ftr" idx="10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 type="sldNum" idx="10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95FC-EADE-4BD9-819E-4EA3EA8DF7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9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0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1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10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10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 type="sldNum" idx="10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91BC-A68F-44F8-AB82-6BD13C436B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886F-A740-4BB5-8AB0-893938559E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90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65CA-DAE1-41B1-BD91-C494A0FF9F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548F-D6F5-430C-B121-3FC7DDC092E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44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6FD4-BEE5-4405-9C25-F1B318156FA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9CB0-FE5F-4C7A-8839-AA406AC6915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74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6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49C-1BE1-4715-B1A6-0AFBF7FFB7C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1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243D-23AD-4775-98AF-3F2F0A3EF7F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1E10-FAF3-419D-BB34-506DCF981EC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quia.com/rr/12502.html" TargetMode="External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458200" cy="225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8d3e"/>
                </a:solidFill>
                <a:latin typeface="Blackadder ITC"/>
              </a:rPr>
              <a:t>Seed of Life</a:t>
            </a:r>
            <a:endParaRPr b="1" lang="en-US" sz="15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2819160" y="3733560"/>
            <a:ext cx="5715000" cy="225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4d26"/>
                </a:solidFill>
                <a:latin typeface="Bodoni MT Black"/>
              </a:rPr>
              <a:t>A Unit Plan for Science IV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5f07"/>
                </a:solidFill>
                <a:latin typeface="Book Antiqua"/>
              </a:rPr>
              <a:t>Prepared by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5f07"/>
                </a:solidFill>
                <a:latin typeface="Book Antiqua"/>
              </a:rPr>
              <a:t>Seno, Bunani &amp; Bongb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743a"/>
                </a:solidFill>
                <a:latin typeface="Goudy Stout"/>
              </a:rPr>
              <a:t>Educ 25 ED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Picture 3" descr="MC900441862[1]"/>
          <p:cNvPicPr/>
          <p:nvPr/>
        </p:nvPicPr>
        <p:blipFill>
          <a:blip r:embed="rId1"/>
          <a:stretch/>
        </p:blipFill>
        <p:spPr>
          <a:xfrm>
            <a:off x="5715000" y="1585800"/>
            <a:ext cx="3429000" cy="5272200"/>
          </a:xfrm>
          <a:prstGeom prst="rect">
            <a:avLst/>
          </a:prstGeom>
          <a:ln w="0">
            <a:noFill/>
          </a:ln>
        </p:spPr>
      </p:pic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78279"/>
                </a:solidFill>
                <a:latin typeface="Bodoni MT Black"/>
              </a:rPr>
              <a:t>Unit</a:t>
            </a:r>
            <a:r>
              <a:rPr b="0" lang="en-US" sz="7200" spc="-1" strike="noStrike">
                <a:solidFill>
                  <a:srgbClr val="578279"/>
                </a:solidFill>
                <a:latin typeface="Broadway"/>
              </a:rPr>
              <a:t> </a:t>
            </a:r>
            <a:r>
              <a:rPr b="0" lang="en-US" sz="7200" spc="-1" strike="noStrike">
                <a:solidFill>
                  <a:srgbClr val="578279"/>
                </a:solidFill>
                <a:latin typeface="Bodoni MT Black"/>
              </a:rPr>
              <a:t>Summary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2286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5f1e"/>
                </a:solidFill>
                <a:latin typeface="Tempus Sans ITC"/>
                <a:ea typeface="Tahoma"/>
              </a:rPr>
              <a:t>Students have a natural curiosity about plants as living organisms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5f1e"/>
                </a:solidFill>
                <a:latin typeface="Tempus Sans ITC"/>
                <a:ea typeface="Tahoma"/>
              </a:rPr>
              <a:t>   </a:t>
            </a:r>
            <a:r>
              <a:rPr b="1" lang="en-US" sz="3200" spc="-1" strike="noStrike">
                <a:solidFill>
                  <a:srgbClr val="7c5f1e"/>
                </a:solidFill>
                <a:latin typeface="Tempus Sans ITC"/>
                <a:ea typeface="Tahoma"/>
              </a:rPr>
              <a:t>This unit will facilitate pupils’ interaction with the environment by encouraging them to learn more about the in-depth concepts about plants. </a:t>
            </a:r>
            <a:r>
              <a:rPr b="1" lang="en-US" sz="3200" spc="-1" strike="noStrike">
                <a:solidFill>
                  <a:srgbClr val="7c5f1e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Picture 3" descr="MC900338360[1]"/>
          <p:cNvPicPr/>
          <p:nvPr/>
        </p:nvPicPr>
        <p:blipFill>
          <a:blip r:embed="rId1"/>
          <a:stretch/>
        </p:blipFill>
        <p:spPr>
          <a:xfrm>
            <a:off x="5433840" y="2286000"/>
            <a:ext cx="3710160" cy="457200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 txBox="1"/>
          <p:nvPr/>
        </p:nvSpPr>
        <p:spPr>
          <a:xfrm>
            <a:off x="0" y="-305280"/>
            <a:ext cx="63244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2d050"/>
                </a:solidFill>
                <a:latin typeface="Garamond"/>
                <a:ea typeface="Tahoma"/>
              </a:rPr>
              <a:t>During the unit, students will ask questions and devise ways to find answers as they discover why seeds in plants are important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050"/>
                </a:solidFill>
                <a:latin typeface="Garamond"/>
                <a:ea typeface="Tahoma"/>
              </a:rPr>
              <a:t>In addition to working with scientific process skills, students engage in writing activities that would encourage descriptive and critical thinking as well as creativ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Title 1" descr=""/>
          <p:cNvPicPr/>
          <p:nvPr/>
        </p:nvPicPr>
        <p:blipFill>
          <a:blip r:embed="rId1"/>
          <a:stretch/>
        </p:blipFill>
        <p:spPr>
          <a:xfrm>
            <a:off x="-165240" y="122400"/>
            <a:ext cx="9480600" cy="877680"/>
          </a:xfrm>
          <a:prstGeom prst="rect">
            <a:avLst/>
          </a:prstGeom>
          <a:ln w="0">
            <a:noFill/>
          </a:ln>
        </p:spPr>
      </p:pic>
      <p:sp>
        <p:nvSpPr>
          <p:cNvPr id="1739" name=""/>
          <p:cNvSpPr txBox="1"/>
          <p:nvPr/>
        </p:nvSpPr>
        <p:spPr>
          <a:xfrm>
            <a:off x="228240" y="1066320"/>
            <a:ext cx="792468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uhaus 93"/>
              </a:rPr>
              <a:t>Essential Question: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Can life sprout from a small object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uhaus 93"/>
              </a:rPr>
              <a:t>Unit Questions: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How do plants reproduce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What are the perfect conditions for growing a seed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uhaus 93"/>
              </a:rPr>
              <a:t>Content Questions: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On what means does a plant propagate sexually or asexually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How do you illustrate the different stages of a plant’s life cycle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What are the parts of a seed and its function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What important factors affect seed germination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1740" name="Picture 2" descr="MC900071369[1]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410080" y="838080"/>
            <a:ext cx="27133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Snap ITC"/>
              </a:rPr>
              <a:t>Assessment Summary :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The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Seed Book </a:t>
            </a: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serves as a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portfolio.</a:t>
            </a:r>
            <a:r>
              <a:rPr b="0" lang="en-US" sz="36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It includes the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documentation</a:t>
            </a: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 of activities as well as the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students’ outputs</a:t>
            </a: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 – both individual and group. As the teacher, the Seed Book will be rated according to its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completeness of entries, content, organization and creativity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quia.com/rr/12502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urbanext.illinois.edu/gpe/index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2.bgfl.org/bgfl2/custom/resources_ftp/client_ftp/ks2/science/plants_pt2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bbc.co.uk/schools/scienceclips/ages/9_10/index_noflash.s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gfl-cymru.org.uk/vtc/factors_plant_growth/eng/Introduction/MainSessionPart1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gfl-cymru.org.uk/vtc/plant_repro/eng/Introduction/activity2pop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gfl-cymru.org.uk/vtc/factors_plant_growth/eng/Introduction/MainSessionPart2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catie.org.uk/PL_home_sweet_page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44" name="Picture 2" descr="MC900446274[1]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910560" y="0"/>
            <a:ext cx="2233440" cy="1968480"/>
          </a:xfrm>
          <a:prstGeom prst="rect">
            <a:avLst/>
          </a:prstGeom>
          <a:ln w="0">
            <a:noFill/>
          </a:ln>
        </p:spPr>
      </p:pic>
      <p:pic>
        <p:nvPicPr>
          <p:cNvPr id="1745" name="Title 1" descr=""/>
          <p:cNvPicPr/>
          <p:nvPr/>
        </p:nvPicPr>
        <p:blipFill>
          <a:blip r:embed="rId3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 txBox="1"/>
          <p:nvPr/>
        </p:nvSpPr>
        <p:spPr>
          <a:xfrm>
            <a:off x="380880" y="4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b050"/>
                </a:solidFill>
                <a:latin typeface="Cooper Black"/>
              </a:rPr>
              <a:t>Let us begin the FUN journey!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747" name="Picture 2" descr="MC900059136[1]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5562720" y="1752480"/>
            <a:ext cx="33526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0:05:17Z</dcterms:created>
  <dc:creator>user</dc:creator>
  <dc:description/>
  <dc:language>en-US</dc:language>
  <cp:lastModifiedBy>nave1386</cp:lastModifiedBy>
  <dcterms:modified xsi:type="dcterms:W3CDTF">2010-09-22T23:55:44Z</dcterms:modified>
  <cp:revision>9</cp:revision>
  <dc:subject/>
  <dc:title>Seed of Life</dc:title>
</cp:coreProperties>
</file>